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F67F-93FF-4660-9C6E-D5CC5C1D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950-0ADE-4F65-A897-CB16C2C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E64-FCD0-48BE-A483-9E76B11B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3B8-A466-4DB6-A917-95C919BC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6DDB-D905-4536-AE7E-479183E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1288-0714-4DDD-A8EB-50510E40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EC7-AB71-4C8B-BAE5-AB74306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78F-C8A8-43EE-8953-E1CA3073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BE5E-4E80-44A3-99D7-C2010B60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0A2-1DA8-45BC-B462-1032A32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EA1-6D2E-472B-9A99-FE04DE3F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42C-D47F-497F-B464-47F95BED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D481-32BC-45F4-ACD7-A8B5801605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n.com/news/enn-stories/1999/04/040699/gorilla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orrie.files@virgin.ne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aphari.com/artie/images/panther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ophie-g.net/photo/oz/anim/pct/kanga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anson: Chanterelles ‘Tu as un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ay what pets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ay what your pet is called and give its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ask others about their pet’s name and age and relate that to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ad and understand another way of asking the question ‘have you (got)?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read and understand ‘I hav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learn how to use adjectives to make a comment on someone or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1840" y="3213000"/>
            <a:ext cx="2795400" cy="3456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Jul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gor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gorille, il s’appelle Soph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Sophie pour un gorille, oh quelle f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Sophie pour un gorille, oh quelle fol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erche l’int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mp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ier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p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43640" y="907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198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5516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uch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285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4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t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197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3284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205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65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587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62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1125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angour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443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2924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3213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8900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ivise en cinq grou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elli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aty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mp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su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f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o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ça se prono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ctiv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sten and enjoy song without lyrics (contact Corrie Files at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corrie.files@virgin.ne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or detail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cuss gist of song. Listen and link pets with their names. sli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lyrics – bring out cognates and ‘have’ – new question form by intonation, and c’est + adjective – mime adjec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lk about own pets (photos, cuddly to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nd odd one out –slide 11, or group words on slide 12 into similar sou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nunciation practice on final slides as starter for next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ssocie les noms aux an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s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ouch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épo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 as un ani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 Al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la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lapin, il s’appelle Vi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Vilain pour un lapin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b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Vilain pour un lapin, ça c’est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00640" y="2924280"/>
            <a:ext cx="352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Katy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 j’ai un animal, j’ai un c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chat, il s’appelle C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oca pour un chat, c’est sy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oca pour un chat, c’est symp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11280" y="3429000"/>
            <a:ext cx="640872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, Jean-Pier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, j’ai un animal, j’ai une 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’ai un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ère, elle s’appelle Es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sther pour une </a:t>
            </a: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ère, c’est su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Esther pour une </a:t>
            </a: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panth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ère, c’est su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284640"/>
            <a:ext cx="38401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81760" y="3141720"/>
            <a:ext cx="297504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Tu as un animal, un animal Abd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ui, j’ai un animal, j’ai un kangou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ai un kangourou, il s’appelle Chouch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houchou pour un kangourou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f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Comic Sans MS"/>
              </a:rPr>
              <a:t>Chouchou pour un kangourou, </a:t>
            </a:r>
            <a:r>
              <a:rPr b="0" lang="en-US" sz="3200" spc="-1" strike="noStrike">
                <a:solidFill>
                  <a:srgbClr val="0066ff"/>
                </a:solidFill>
                <a:latin typeface="Comic Sans MS"/>
              </a:rPr>
              <a:t>ça c’est f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1:32:25Z</dcterms:created>
  <dc:creator>LFT1</dc:creator>
  <dc:description/>
  <dc:language>en-US</dc:language>
  <cp:lastModifiedBy>Teacher</cp:lastModifiedBy>
  <dcterms:modified xsi:type="dcterms:W3CDTF">2007-11-19T00:50:01Z</dcterms:modified>
  <cp:revision>9</cp:revision>
  <dc:subject/>
  <dc:title>Chanson: Chanterelles ‘Tu as un animal?</dc:title>
</cp:coreProperties>
</file>